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009-DE15-4E2D-9048-DAEF3356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F0A-AC93-4166-A4A9-6DAF2852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AC0-948A-4851-9570-C0BD3134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953-770D-4685-A830-24C8161D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E0099-8FD5-491B-A61F-965269DC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A43BF-2634-4D53-A85D-E159C75B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AD723-0FF3-42C3-9E46-7A7C76F5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862FA-A301-4FA4-86CE-C5E3189F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70182-7769-4C6C-80F2-FE733ACD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EAB0E-BA8B-4887-976F-58C1FAC8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A78BF-7A82-4556-BA5D-63DE231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D0F-49C3-4C9F-A1DB-971884AA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0A063-9422-4489-87E9-4AAAE6F7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BC9AA-BDEA-4834-B28B-29BD69DC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51B35-184A-4511-957D-23FE5972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9F449-01FF-497B-AD6A-AF5E1CD3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248C7-82DE-47B0-9288-24DF8039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5B9-F690-4240-84D1-82D8B6CC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752-D8D3-49C2-9B5D-F27CBBA3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118-6923-4345-8B6A-A7938913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EAA-E84C-40F9-8DBB-0D134FE9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601-6481-4472-9171-D08FD7DD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67A-73CD-47CB-8584-BAAA0E58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63B-30E0-4145-8106-4179AA6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659A-77AB-4619-8F6B-98CB19F2DB6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5FA7-F0F7-4FD4-809E-F4793BD321B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400" spc="-1" strike="noStrike">
                <a:solidFill>
                  <a:srgbClr val="e3e3ff"/>
                </a:solidFill>
                <a:latin typeface="Arial"/>
              </a:rPr>
              <a:t>Orígenes de la civilización del Perú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5" descr="http://www.peru.info/mensajeshtm/Imagenes/libro2.jpg"/>
          <p:cNvPicPr/>
          <p:nvPr/>
        </p:nvPicPr>
        <p:blipFill>
          <a:blip r:embed="rId1"/>
          <a:stretch/>
        </p:blipFill>
        <p:spPr>
          <a:xfrm>
            <a:off x="2857680" y="2054160"/>
            <a:ext cx="3786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285840"/>
          <a:ext cx="9144000" cy="6572160"/>
        </p:xfrm>
        <a:graphic>
          <a:graphicData uri="http://schemas.openxmlformats.org/drawingml/2006/table">
            <a:tbl>
              <a:tblPr/>
              <a:tblGrid>
                <a:gridCol w="2143080"/>
                <a:gridCol w="1555920"/>
                <a:gridCol w="5445000"/>
              </a:tblGrid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exposi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es cul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6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iércoles 11 </a:t>
                      </a:r>
                      <a:r>
                        <a:rPr b="0" lang="es-PE" sz="24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Jueves 12 </a:t>
                      </a:r>
                      <a:r>
                        <a:rPr b="0" lang="es-PE" sz="24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Lunes 16 </a:t>
                      </a:r>
                      <a:r>
                        <a:rPr b="0" lang="es-PE" sz="2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ardí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ancay, Chincha, Chachapoy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jamarca, Chancas, Señorío Cuzc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ñoríos aymaras, Lambayequ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artes 10 </a:t>
                      </a:r>
                      <a:r>
                        <a:rPr b="0" lang="es-PE" sz="2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pisnique, Recuay, Li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18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Lunes 9 </a:t>
                      </a:r>
                      <a:r>
                        <a:rPr b="0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(Rembran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kara, Salinar, Sechí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  <p:sp>
        <p:nvSpPr>
          <p:cNvPr id="125" name="SMARTPenAnnotation2"/>
          <p:cNvSpPr/>
          <p:nvPr/>
        </p:nvSpPr>
        <p:spPr>
          <a:xfrm>
            <a:off x="7653240" y="46782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8930" h="8930">
                <a:moveTo>
                  <a:pt x="8929" y="0"/>
                </a:moveTo>
                <a:lnTo>
                  <a:pt x="10" y="0"/>
                </a:lnTo>
                <a:lnTo>
                  <a:pt x="0" y="89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MARTPenAnnotation6"/>
          <p:cNvSpPr/>
          <p:nvPr/>
        </p:nvSpPr>
        <p:spPr>
          <a:xfrm>
            <a:off x="6153120" y="5330880"/>
            <a:ext cx="7920" cy="9360"/>
          </a:xfrm>
          <a:custGeom>
            <a:avLst/>
            <a:gdLst>
              <a:gd name="textAreaLeft" fmla="*/ 0 w 7920"/>
              <a:gd name="textAreaRight" fmla="*/ 8280 w 79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8931" h="8931">
                <a:moveTo>
                  <a:pt x="0" y="0"/>
                </a:moveTo>
                <a:lnTo>
                  <a:pt x="8930" y="89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MARTPenAnnotation7"/>
          <p:cNvSpPr/>
          <p:nvPr/>
        </p:nvSpPr>
        <p:spPr>
          <a:xfrm>
            <a:off x="5330880" y="5035680"/>
            <a:ext cx="360" cy="9360"/>
          </a:xfrm>
          <a:custGeom>
            <a:avLst/>
            <a:gdLst>
              <a:gd name="textAreaLeft" fmla="*/ 0 w 360"/>
              <a:gd name="textAreaRight" fmla="*/ 720 w 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" h="8931">
                <a:moveTo>
                  <a:pt x="0" y="893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MARTPenAnnotation11"/>
          <p:cNvSpPr/>
          <p:nvPr/>
        </p:nvSpPr>
        <p:spPr>
          <a:xfrm>
            <a:off x="4830840" y="3652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47" h="8821">
                <a:moveTo>
                  <a:pt x="0" y="0"/>
                </a:moveTo>
                <a:lnTo>
                  <a:pt x="0" y="8820"/>
                </a:lnTo>
                <a:lnTo>
                  <a:pt x="0" y="4156"/>
                </a:lnTo>
                <a:lnTo>
                  <a:pt x="993" y="2771"/>
                </a:lnTo>
                <a:lnTo>
                  <a:pt x="2646" y="1847"/>
                </a:lnTo>
                <a:close/>
              </a:path>
            </a:pathLst>
          </a:custGeom>
          <a:solidFill>
            <a:srgbClr val="3399ff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15"/>
          <p:cNvSpPr/>
          <p:nvPr/>
        </p:nvSpPr>
        <p:spPr>
          <a:xfrm>
            <a:off x="4741920" y="6848640"/>
            <a:ext cx="19080" cy="360"/>
          </a:xfrm>
          <a:custGeom>
            <a:avLst/>
            <a:gdLst>
              <a:gd name="textAreaLeft" fmla="*/ 0 w 19080"/>
              <a:gd name="textAreaRight" fmla="*/ 19440 w 190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9341" h="1">
                <a:moveTo>
                  <a:pt x="17795" y="0"/>
                </a:moveTo>
                <a:lnTo>
                  <a:pt x="0" y="0"/>
                </a:lnTo>
                <a:lnTo>
                  <a:pt x="19340" y="0"/>
                </a:lnTo>
                <a:close/>
              </a:path>
            </a:pathLst>
          </a:custGeom>
          <a:solidFill>
            <a:srgbClr val="3399ff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214200"/>
          <a:ext cx="9144000" cy="6643800"/>
        </p:xfrm>
        <a:graphic>
          <a:graphicData uri="http://schemas.openxmlformats.org/drawingml/2006/table">
            <a:tbl>
              <a:tblPr/>
              <a:tblGrid>
                <a:gridCol w="2143080"/>
                <a:gridCol w="1555920"/>
                <a:gridCol w="544500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exposi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es cul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1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Viernes 1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iércoles 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Viernes 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ardí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achapoyas. Cajamarca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ñorío Cuzco. Señoríos ayma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ancas, Lambayequ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iércoles 11 </a:t>
                      </a:r>
                      <a:r>
                        <a:rPr b="0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(Da Vinc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rú, Recuay, Li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artes 10  </a:t>
                      </a:r>
                      <a:r>
                        <a:rPr b="0" lang="es-PE" sz="16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(Da Vinc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kara, Salinar, Vicus</a:t>
                      </a:r>
                      <a:r>
                        <a:rPr b="0" lang="es-PE" sz="24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4:03:58Z</dcterms:created>
  <dc:creator>Familia Soto Muñante</dc:creator>
  <dc:description/>
  <dc:language>en-US</dc:language>
  <cp:lastModifiedBy>Computo</cp:lastModifiedBy>
  <dcterms:modified xsi:type="dcterms:W3CDTF">2009-11-10T20:45:25Z</dcterms:modified>
  <cp:revision>61</cp:revision>
  <dc:subject/>
  <dc:title>Diapositiva 1</dc:title>
</cp:coreProperties>
</file>